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C62-1B97-45FA-9316-7F316F3E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2DD-050E-4291-B36C-272F142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559-D645-44CF-A3A2-5E59782C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D1D-B292-4EED-BE52-05A3CDD1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A65-0153-49B3-B8D6-C6368CB1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4B6-D9C0-4716-97AF-DA4589DD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F209-B8EC-457A-935D-51C25FD5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348C-5A10-4EB4-98A3-A5BBD94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8ECF-234A-41E9-9A27-9EFC837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8C44-AAF5-49AF-ADBD-4F7F31E2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652E-20F7-46F6-88E5-C2FCB70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D1C-DA63-4B76-A593-939C809B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D73B-F591-4BA7-AF21-AB475B9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EA3-2A81-4250-BCA3-BB5058CD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DFFD-DF30-491B-A822-B86A4E7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F04-BB30-417D-97ED-2BB56DA8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ADF-6A65-47D5-BE2A-9D68B99C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FF7-A57A-464F-9CAC-C9D94A15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240-CB29-4BCA-AEC1-757C567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06-AEED-4392-9C12-F2A769B3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F69-DD01-4461-8D71-C13A60C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0EA-A25A-4044-A4C1-A9743C6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E21-9D52-46F3-AD21-4AADEB4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803-3CD4-40F7-9E72-08F43CC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16D1-0096-41F0-934E-281106AE80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851-7F35-4205-B051-B80CF33F66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LICZANIE POLA POWIERZCHNI PROSTOPADŁOŚCIA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1314000"/>
            <a:ext cx="73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licz pole powierzchni prostopadłościanu o wymiarach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5 cm, 4 cm, 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57360" y="171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71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22360" y="1763640"/>
          <a:ext cx="6191280" cy="491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2360" y="1763640"/>
                    <a:ext cx="61912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4160" y="4344840"/>
            <a:ext cx="439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stały nam następujące prostoką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I i VI o wymiarach 5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I i IV o wymiarach 6 cm i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III i V o wymiarach 6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225440"/>
          <a:ext cx="5265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225440"/>
                    <a:ext cx="5265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5640" y="108864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liczamy pola prostoką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6640" y="144756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 = 5 cm · 4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 i VI = 2 ·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 i VI = 4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266220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P = 6 cm • 5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 i IV = 2 •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 i IV = 6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383184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P = 6 cm • 4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I i V = 2 •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I i V = 48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5712840"/>
            <a:ext cx="87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4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1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6280" y="509436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czamy sumę pól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942560"/>
            <a:ext cx="73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le powierzchni całkowitej prostopadłościanu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uma pól wszystkich ścian prostopadłościa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20" y="1672200"/>
            <a:ext cx="780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licz pole powierzchni ścian bocznych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cz pole powierzchni podstaw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1:27Z</dcterms:modified>
  <cp:revision>104</cp:revision>
  <dc:subject/>
  <dc:title>Slajd 1</dc:title>
</cp:coreProperties>
</file>